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56.png" ContentType="image/png"/>
  <Override PartName="/ppt/media/image55.png" ContentType="image/png"/>
  <Override PartName="/ppt/media/image53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52.png" ContentType="image/png"/>
  <Override PartName="/ppt/media/image2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38.jpeg" ContentType="image/jpeg"/>
  <Override PartName="/ppt/media/image28.png" ContentType="image/png"/>
  <Override PartName="/ppt/media/image32.jpeg" ContentType="image/jpeg"/>
  <Override PartName="/ppt/media/image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1.jpeg" ContentType="image/jpeg"/>
  <Override PartName="/ppt/media/image8.wmf" ContentType="image/x-wmf"/>
  <Override PartName="/ppt/media/image40.png" ContentType="image/png"/>
  <Override PartName="/ppt/media/image29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11.jpeg" ContentType="image/jpeg"/>
  <Override PartName="/ppt/media/image24.png" ContentType="image/png"/>
  <Override PartName="/ppt/media/image6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2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17.png" ContentType="image/png"/>
  <Override PartName="/ppt/media/image39.jpeg" ContentType="image/jpeg"/>
  <Override PartName="/ppt/media/image9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6.wmf" ContentType="image/x-wmf"/>
  <Override PartName="/ppt/media/image30.jpeg" ContentType="image/jpeg"/>
  <Override PartName="/ppt/media/image31.jpeg" ContentType="image/jpeg"/>
  <Override PartName="/ppt/media/image35.png" ContentType="image/png"/>
  <Override PartName="/ppt/media/image20.png" ContentType="image/png"/>
  <Override PartName="/ppt/media/image37.jpeg" ContentType="image/jpeg"/>
  <Override PartName="/ppt/media/image43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4.jpeg" ContentType="image/jpe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90520" y="877680"/>
            <a:ext cx="4462560" cy="31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289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1060200" y="4349520"/>
            <a:ext cx="4730760" cy="35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E31-3BAE-424D-99F4-80DAD1E1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71A-EFD3-41D1-A305-0BE1A16E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DF5-6D67-44C6-B2A3-92C7F92F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677-CEED-4BA1-BD3B-92825E0D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8266-2DDF-4EAA-9BEA-B3C86CF0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C7A5-7753-4ADD-854E-6F7E20B7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8D9A-2843-483D-A6C8-3B2B1E1E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BC76-A379-4598-90A9-A800FF26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5732-219B-41D5-97F7-8E6B5776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6C9E-C17A-4199-9C85-D3135441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442D-4B7B-4752-A45A-798CC29E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052-680D-4DDB-9475-2811C88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3CFA-F987-4227-8BDE-D9F9D25B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F655-C570-44C4-8B32-882B5FBB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0AF8-513C-47F1-91F0-C2FEFA43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0AAA-8098-4ADD-AE06-64A6C210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792E-5358-4762-9049-E8531BD8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EC9-A461-4D2C-B229-B51DFC4D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D56-8321-47BD-927E-3E07923A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56A-B08C-462E-AC58-9E603D2D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2AB-7686-4FAC-B40B-A58EDC1F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53A-A697-4876-93AF-24A0C5F4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839-D4D5-4941-B6C5-4D10D89C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AE9-A2D3-4086-924F-F52DEDA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57823C-824B-47A8-B4F5-CE9A2D83A338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7A0C38-41AE-498C-AC8D-8F2A478EE0FB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43BE5F-0D4F-4F59-9D6D-AA521B0106EA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57120" y="428760"/>
            <a:ext cx="814392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11280" y="2214720"/>
            <a:ext cx="74898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БЮДЖЕТ    ДЛЯ ГРАЖДА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Arial"/>
              </a:rPr>
              <a:t>Отчет об исполнении бюджета муниципального образования Лебяжский муниципальный рай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Arial"/>
              </a:rPr>
              <a:t>за 2015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6" descr="pan-gerb-grey1.jpg"/>
          <p:cNvPicPr/>
          <p:nvPr/>
        </p:nvPicPr>
        <p:blipFill>
          <a:blip r:embed="rId1"/>
          <a:stretch/>
        </p:blipFill>
        <p:spPr>
          <a:xfrm>
            <a:off x="214200" y="142920"/>
            <a:ext cx="87868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321760" cy="969840"/>
          </a:xfrm>
          <a:prstGeom prst="rect">
            <a:avLst/>
          </a:prstGeom>
          <a:ln w="0">
            <a:noFill/>
          </a:ln>
        </p:spPr>
      </p:pic>
      <p:sp>
        <p:nvSpPr>
          <p:cNvPr id="158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5B9DA5-E082-4662-B375-564C968162BD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Диаграмма 4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8208720" cy="3240000"/>
          </a:xfrm>
          <a:prstGeom prst="rect">
            <a:avLst/>
          </a:prstGeom>
          <a:ln w="0">
            <a:noFill/>
          </a:ln>
        </p:spPr>
      </p:pic>
      <p:sp>
        <p:nvSpPr>
          <p:cNvPr id="160" name="Скругленный прямоугольник 5"/>
          <p:cNvSpPr/>
          <p:nvPr/>
        </p:nvSpPr>
        <p:spPr>
          <a:xfrm>
            <a:off x="250920" y="3933720"/>
            <a:ext cx="8713800" cy="2664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ведено </a:t>
            </a:r>
            <a:r>
              <a:rPr b="0" lang="ru-RU" sz="17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3 заседаний межведомственной комиссии </a:t>
            </a: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обеспечению доходов в бюджет муниципального района, полноты и своевременности выплаты и легализации заработной платы. Приглашено 176 должников (22 юридических лица, 21 индивидуальный предприниматель, 133 физических лица). Сумма задолженности по налоговым доходам и неналоговым платежам  по приглашенным на комиссию составила 1 634,5ыс. рублей (налоговые платежи – 1 483,1 тыс. руб., неналоговые платежи – 151,4 тыс. руб.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целях добровольного погашения задолженности  должникам было </a:t>
            </a:r>
            <a:r>
              <a:rPr b="0" lang="ru-RU" sz="17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направлено 38 писем- предупреждений</a:t>
            </a: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после получения которых, недоимка в сумме 346,9 тыс. рублей погашен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4f5fa"/>
                </a:solidFill>
                <a:latin typeface="Arial"/>
                <a:ea typeface="Arial"/>
              </a:rPr>
              <a:t>Расходы бюджета  по разделам бюджетной классификации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C79300-4E23-4A76-B865-C2AEA1EE51FD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-36360" y="765000"/>
          <a:ext cx="9180360" cy="6315120"/>
        </p:xfrm>
        <a:graphic>
          <a:graphicData uri="http://schemas.openxmlformats.org/drawingml/2006/table">
            <a:tbl>
              <a:tblPr/>
              <a:tblGrid>
                <a:gridCol w="4314600"/>
                <a:gridCol w="1049400"/>
                <a:gridCol w="1541520"/>
                <a:gridCol w="1407960"/>
                <a:gridCol w="8668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676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33676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дел,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 сводной бюджетной росписью (тыс.ру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11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03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циональная безопасность и правоохранитель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37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14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20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96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62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42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72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36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зическая культура и с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служивание государственного и муниципального дол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жбюджетные трансферты бюджетам посел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6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3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f7dc"/>
                    </a:solidFill>
                  </a:tcPr>
                </a:tc>
              </a:tr>
            </a:tbl>
          </a:graphicData>
        </a:graphic>
      </p:graphicFrame>
      <p:pic>
        <p:nvPicPr>
          <p:cNvPr id="164" name="Рисунок 4" descr="Money-20113.jpg"/>
          <p:cNvPicPr/>
          <p:nvPr/>
        </p:nvPicPr>
        <p:blipFill>
          <a:blip r:embed="rId1"/>
          <a:stretch/>
        </p:blipFill>
        <p:spPr>
          <a:xfrm>
            <a:off x="0" y="75564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868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f5fa"/>
                </a:solidFill>
                <a:latin typeface="Times New Roman"/>
                <a:ea typeface="Times New Roman"/>
              </a:rPr>
              <a:t>Распределение расходов бюджета Лебяжского района </a:t>
            </a:r>
            <a:br>
              <a:rPr sz="2800"/>
            </a:br>
            <a:r>
              <a:rPr b="1" lang="ru-RU" sz="2800" spc="-1" strike="noStrike">
                <a:solidFill>
                  <a:srgbClr val="94f5fa"/>
                </a:solidFill>
                <a:latin typeface="Times New Roman"/>
                <a:ea typeface="Times New Roman"/>
              </a:rPr>
              <a:t>по отраслям в 2015 году, %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6" name="Содержимое 4" descr=""/>
          <p:cNvPicPr/>
          <p:nvPr/>
        </p:nvPicPr>
        <p:blipFill>
          <a:blip r:embed="rId1"/>
          <a:stretch/>
        </p:blipFill>
        <p:spPr>
          <a:xfrm>
            <a:off x="-50760" y="930240"/>
            <a:ext cx="8788320" cy="5978520"/>
          </a:xfrm>
          <a:prstGeom prst="rect">
            <a:avLst/>
          </a:prstGeom>
          <a:ln w="0">
            <a:noFill/>
          </a:ln>
        </p:spPr>
      </p:pic>
      <p:sp>
        <p:nvSpPr>
          <p:cNvPr id="16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1EED69-450C-4347-A717-B7CA1C05F51C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2303e"/>
                </a:solidFill>
                <a:latin typeface="Arial"/>
                <a:ea typeface="Arial"/>
              </a:rPr>
              <a:t>Распределение расходов по муниципальным программам </a:t>
            </a:r>
            <a:br>
              <a:rPr sz="24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ализовано 11 муниципальных программ на общую сумму </a:t>
            </a:r>
            <a:br>
              <a:rPr sz="24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56 097,2тыс.руб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9280" y="1341360"/>
          <a:ext cx="8856720" cy="5211720"/>
        </p:xfrm>
        <a:graphic>
          <a:graphicData uri="http://schemas.openxmlformats.org/drawingml/2006/table">
            <a:tbl>
              <a:tblPr/>
              <a:tblGrid>
                <a:gridCol w="2232000"/>
                <a:gridCol w="2592360"/>
                <a:gridCol w="1944720"/>
                <a:gridCol w="2087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ой направл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еспечение безопасных условий жизне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держка отраслей экономи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го характ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Развитие образования 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82 952,2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и жизнедеятельности населения  Лебяжского района –         966,6 тыс.ру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Развитие агропромышленного комплекса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3 874,3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Times New Roman"/>
                          <a:ea typeface="Times New Roman"/>
                        </a:rPr>
                        <a:t>Управление муниципальным имуществом – 928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Развитие физической культуры и спорта – 156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Развитие транспортной системы – 18 551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Times New Roman"/>
                          <a:ea typeface="Times New Roman"/>
                        </a:rPr>
                        <a:t>Развитие муниципального управления 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Times New Roman"/>
                          <a:ea typeface="Times New Roman"/>
                        </a:rPr>
                        <a:t>24 527,2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52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Развитие культуры и туризма – 16 19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Развитие коммунальной и жилищной инфраструктуры – 613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Times New Roman"/>
                          <a:ea typeface="Times New Roman"/>
                        </a:rPr>
                        <a:t>Управление муниципальными финансами и регулирование межбюджетных отношений – 6 708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15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119aa"/>
                          </a:solidFill>
                          <a:latin typeface="Times New Roman"/>
                          <a:ea typeface="Times New Roman"/>
                        </a:rPr>
                        <a:t>Повышение эффективности реализации молодежной политики – 629,7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17178F-1803-4F8E-81E3-9A5EB0E8677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f0f7"/>
                </a:solidFill>
                <a:latin typeface="Arial"/>
                <a:ea typeface="Arial"/>
              </a:rPr>
              <a:t>Структура расходов на реализацию муниципальных программ, </a:t>
            </a: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млн.руб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2" name="Содержимое 5" descr=""/>
          <p:cNvPicPr/>
          <p:nvPr/>
        </p:nvPicPr>
        <p:blipFill>
          <a:blip r:embed="rId1"/>
          <a:stretch/>
        </p:blipFill>
        <p:spPr>
          <a:xfrm>
            <a:off x="-374760" y="1074600"/>
            <a:ext cx="9569520" cy="37735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"/>
          <p:cNvPicPr/>
          <p:nvPr/>
        </p:nvPicPr>
        <p:blipFill>
          <a:blip r:embed="rId2"/>
          <a:stretch/>
        </p:blipFill>
        <p:spPr>
          <a:xfrm>
            <a:off x="-50760" y="4365720"/>
            <a:ext cx="9245520" cy="2543040"/>
          </a:xfrm>
          <a:prstGeom prst="rect">
            <a:avLst/>
          </a:prstGeom>
          <a:ln w="0">
            <a:noFill/>
          </a:ln>
        </p:spPr>
      </p:pic>
      <p:sp>
        <p:nvSpPr>
          <p:cNvPr id="174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AB3ECF-CEC5-4F01-B200-C1D6C0857D7B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ые программы </a:t>
            </a:r>
            <a:br>
              <a:rPr sz="2800"/>
            </a:b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социальной направленности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017720"/>
          <a:ext cx="9144000" cy="5779800"/>
        </p:xfrm>
        <a:graphic>
          <a:graphicData uri="http://schemas.openxmlformats.org/drawingml/2006/table">
            <a:tbl>
              <a:tblPr/>
              <a:tblGrid>
                <a:gridCol w="4932360"/>
                <a:gridCol w="1584360"/>
                <a:gridCol w="1368360"/>
                <a:gridCol w="12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98840" algn="ctr">
                        <a:lnSpc>
                          <a:spcPct val="100000"/>
                        </a:lnSpc>
                        <a:tabLst>
                          <a:tab algn="l" pos="0"/>
                          <a:tab algn="l" pos="1074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598840">
                        <a:lnSpc>
                          <a:spcPct val="100000"/>
                        </a:lnSpc>
                        <a:tabLst>
                          <a:tab algn="l" pos="0"/>
                          <a:tab algn="l" pos="1074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цент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«Развитие образования Лебяжского район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18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95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a83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я и предоставление общедоступного и бесплатного дошкольного, общего и дополните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64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48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a83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готовка кадр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a83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циальное обеспечение насел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a83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храна семьи и дет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854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854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a83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я деятельности методкабинета и ведение бухгалтерского учета в учреждениях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74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9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a83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устройство существующего стади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0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04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a83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уществление деятельности по опеке и попечительств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a839"/>
                    </a:solidFill>
                  </a:tcPr>
                </a:tc>
              </a:tr>
            </a:tbl>
          </a:graphicData>
        </a:graphic>
      </p:graphicFrame>
      <p:sp>
        <p:nvSpPr>
          <p:cNvPr id="17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Рисунок 6" descr="4ffa85259f4c5_medium.jpg"/>
          <p:cNvPicPr/>
          <p:nvPr/>
        </p:nvPicPr>
        <p:blipFill>
          <a:blip r:embed="rId1"/>
          <a:stretch/>
        </p:blipFill>
        <p:spPr>
          <a:xfrm>
            <a:off x="324000" y="260280"/>
            <a:ext cx="230508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ые программы социальной направленности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468360"/>
          <a:ext cx="9144000" cy="6207120"/>
        </p:xfrm>
        <a:graphic>
          <a:graphicData uri="http://schemas.openxmlformats.org/drawingml/2006/table">
            <a:tbl>
              <a:tblPr/>
              <a:tblGrid>
                <a:gridCol w="5435640"/>
                <a:gridCol w="1297080"/>
                <a:gridCol w="1295280"/>
                <a:gridCol w="1116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«Развитие культуры и туризма Лебяжского района»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41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19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ы в области туризма и туристической деятельност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еспечение мер социальной поддержки специалистов культуры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и поддержка культурно-досуговой, концертной деятельности и народного творчеств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11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4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я библиотечно-информационного обслуживания населения район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7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3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я дополнительного образования детей в Детской школе искусст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1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9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я музейного дела  в Лебяжском район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я и ведение бухгалтерского учет, организация хозяйственного обслуживания учреждений культуры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5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7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монт  памятников и обелисков войнам-землякам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</a:tbl>
          </a:graphicData>
        </a:graphic>
      </p:graphicFrame>
      <p:sp>
        <p:nvSpPr>
          <p:cNvPr id="18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B3DE45-D25A-47FB-AAF3-D8E758E64D9B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5" descr="ozero_shaytan.png"/>
          <p:cNvPicPr/>
          <p:nvPr/>
        </p:nvPicPr>
        <p:blipFill>
          <a:blip r:embed="rId1"/>
          <a:stretch/>
        </p:blipFill>
        <p:spPr>
          <a:xfrm>
            <a:off x="0" y="620640"/>
            <a:ext cx="34923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ые программы социальной направленности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50920" y="1446120"/>
          <a:ext cx="8712000" cy="5007240"/>
        </p:xfrm>
        <a:graphic>
          <a:graphicData uri="http://schemas.openxmlformats.org/drawingml/2006/table">
            <a:tbl>
              <a:tblPr/>
              <a:tblGrid>
                <a:gridCol w="4825800"/>
                <a:gridCol w="1295640"/>
                <a:gridCol w="1224000"/>
                <a:gridCol w="1366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цент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«Развитие  физической культуры  и спорта в  Лебяжском районе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c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пуляризация физической культуры и спорта среди различных групп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c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я официальных физкультурных, физкультурно-спортивных и спортивных мероприят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c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детско-юношеского спор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c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своение спортивных разрядов и квалификаций спортивных суд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c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FA6C1F-5E36-40C8-AE44-4869734048D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5" descr="физ.png"/>
          <p:cNvPicPr/>
          <p:nvPr/>
        </p:nvPicPr>
        <p:blipFill>
          <a:blip r:embed="rId1"/>
          <a:stretch/>
        </p:blipFill>
        <p:spPr>
          <a:xfrm>
            <a:off x="179280" y="1341360"/>
            <a:ext cx="341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ые программы социальной направленности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9280" y="690480"/>
          <a:ext cx="8929800" cy="6039000"/>
        </p:xfrm>
        <a:graphic>
          <a:graphicData uri="http://schemas.openxmlformats.org/drawingml/2006/table">
            <a:tbl>
              <a:tblPr/>
              <a:tblGrid>
                <a:gridCol w="5977080"/>
                <a:gridCol w="1270080"/>
                <a:gridCol w="747720"/>
                <a:gridCol w="934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о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% исполнени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«Повышение эффективности реализации молодежной политики и организация отдыха и оздоровления детей  и молодежи в Лебяжском районе»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доставление социальных выплат молодым семьям на приобретение жилого помещения, в том числе эконом-класса, или строительство индивидуального  жилого дома за счет средств областного бюд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еспечение жильем молодых семей по ФЦП «Жилище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еспечение жильем молодых семей за счет средств местного бюд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роприятия в сфере молодежной полит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плата стоимости питания детей в оздоровительных учреждениях с дневным пребыванием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8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CBF2AD-8708-43EB-9B7D-B238F524A618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5" descr="semia_rabota.jpg"/>
          <p:cNvPicPr/>
          <p:nvPr/>
        </p:nvPicPr>
        <p:blipFill>
          <a:blip r:embed="rId1"/>
          <a:stretch/>
        </p:blipFill>
        <p:spPr>
          <a:xfrm>
            <a:off x="250920" y="620640"/>
            <a:ext cx="252072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ая программа направленная на обеспечение безопасных условий жизнедеятельности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0920" y="1633680"/>
          <a:ext cx="8712000" cy="4603680"/>
        </p:xfrm>
        <a:graphic>
          <a:graphicData uri="http://schemas.openxmlformats.org/drawingml/2006/table">
            <a:tbl>
              <a:tblPr/>
              <a:tblGrid>
                <a:gridCol w="4897440"/>
                <a:gridCol w="1368360"/>
                <a:gridCol w="1295280"/>
                <a:gridCol w="115092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«Обеспечение безопасности и жизнедеятельности населения Лебяжского район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вершенствование программного и технического оснашения ЕДДС  Лебяжского рай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филактика правонарушений и борьба с преступностью в Лебяжском райо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19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88E261-C2A1-4059-A0E7-D268E3B0F55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6" descr="image25995171.jpg"/>
          <p:cNvPicPr/>
          <p:nvPr/>
        </p:nvPicPr>
        <p:blipFill>
          <a:blip r:embed="rId1"/>
          <a:stretch/>
        </p:blipFill>
        <p:spPr>
          <a:xfrm>
            <a:off x="250920" y="1268280"/>
            <a:ext cx="280836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ние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620640"/>
          <a:ext cx="8640720" cy="6121440"/>
        </p:xfrm>
        <a:graphic>
          <a:graphicData uri="http://schemas.openxmlformats.org/drawingml/2006/table">
            <a:tbl>
              <a:tblPr/>
              <a:tblGrid>
                <a:gridCol w="7345440"/>
                <a:gridCol w="12952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казатели социально-экономического развития Лебяжского рай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ные     характеристики   бюдж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db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ходы бюджета муниципального рай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- 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ведение работы по снижению задолж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db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ходы бюджета муниципального рай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- 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пределение расходов по муниципальным программ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 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db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ы социальной поддержки ,предоставляемые из бюджета муниципального рай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униципальные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db"/>
                    </a:solidFill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оставление субсидий юридическим лицам,</a:t>
                      </a:r>
                      <a:r>
                        <a:rPr b="1" lang="ru-RU" sz="2000" spc="-1" strike="noStrike">
                          <a:solidFill>
                            <a:srgbClr val="5ef0f7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дивидуальным предпринимателям и физическим лицам – производителям товаров, работ, у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-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жбюджетные трансферты бюджетам посел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-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униципальный дол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тактная ин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ые программы поддержки отраслей экономики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1201680"/>
          <a:ext cx="8642160" cy="5251680"/>
        </p:xfrm>
        <a:graphic>
          <a:graphicData uri="http://schemas.openxmlformats.org/drawingml/2006/table">
            <a:tbl>
              <a:tblPr/>
              <a:tblGrid>
                <a:gridCol w="4897440"/>
                <a:gridCol w="1295280"/>
                <a:gridCol w="1297080"/>
                <a:gridCol w="1152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«Развитие агропромышленного комплекс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государственных полномочий области по поддержке сельхозпроизводства (на выполнение управленческих функц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сударственная поддержка сельхозтоваропроизвод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щита населения от болезней общих для человека и животных в части организации и содержания скотомогильник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биотермических я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E91394-308E-4069-928A-E33D186CBF4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0" y="549360"/>
            <a:ext cx="212400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ые программы поддержки</a:t>
            </a:r>
            <a:br>
              <a:rPr sz="2800"/>
            </a:b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 отраслей экономики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68360" y="1341360"/>
          <a:ext cx="8424720" cy="3240000"/>
        </p:xfrm>
        <a:graphic>
          <a:graphicData uri="http://schemas.openxmlformats.org/drawingml/2006/table">
            <a:tbl>
              <a:tblPr/>
              <a:tblGrid>
                <a:gridCol w="4174920"/>
                <a:gridCol w="1684440"/>
                <a:gridCol w="1392120"/>
                <a:gridCol w="1173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цент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«Развитие транспортной системы»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9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c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ы  по дорожному фон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3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c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9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держка развития транспор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c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0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AA3B8B-1FB2-4D61-B99B-FC30308A5B1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Рисунок 6" descr="расчистка дорог.jpg"/>
          <p:cNvPicPr/>
          <p:nvPr/>
        </p:nvPicPr>
        <p:blipFill>
          <a:blip r:embed="rId1"/>
          <a:stretch/>
        </p:blipFill>
        <p:spPr>
          <a:xfrm>
            <a:off x="5292720" y="4869000"/>
            <a:ext cx="2808360" cy="15127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316872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85480"/>
            <a:ext cx="86868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РАСХОДЫ НА ДОРОЖНОЕ ХОЗЯЙСТВО</a:t>
            </a:r>
            <a:r>
              <a:rPr b="0" lang="ru-RU" sz="2000" spc="-1" strike="noStrike">
                <a:solidFill>
                  <a:srgbClr val="04617b"/>
                </a:solidFill>
                <a:latin typeface="Arial"/>
                <a:ea typeface="Arial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Arial"/>
                <a:ea typeface="Arial"/>
              </a:rPr>
              <a:t>              тыс.руб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50920" y="1123920"/>
          <a:ext cx="8569080" cy="5537160"/>
        </p:xfrm>
        <a:graphic>
          <a:graphicData uri="http://schemas.openxmlformats.org/drawingml/2006/table">
            <a:tbl>
              <a:tblPr/>
              <a:tblGrid>
                <a:gridCol w="4606920"/>
                <a:gridCol w="1404720"/>
                <a:gridCol w="1406520"/>
                <a:gridCol w="115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, пл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, фа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,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580,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580,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акцизов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06,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06,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я по содержанию и ремонту автодорог общего пользования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873,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873,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: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38,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98,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 040,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по содержанию и ремонту автодорог общего пользования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654,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654,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водопроводных труб на дорог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яжье -Лаж- Кузнецов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37,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837,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локально- сметного расчета по содержанию автомобильных дорог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портизация дорог и мостов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3,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трансферты сельским поселениям на ремонт дорог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,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0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E7093C-9E99-4FC7-884E-2F31FDC42DF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5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448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ые программы общего характера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79280" y="907920"/>
          <a:ext cx="8785440" cy="5705640"/>
        </p:xfrm>
        <a:graphic>
          <a:graphicData uri="http://schemas.openxmlformats.org/drawingml/2006/table">
            <a:tbl>
              <a:tblPr/>
              <a:tblGrid>
                <a:gridCol w="5256360"/>
                <a:gridCol w="1368360"/>
                <a:gridCol w="1295280"/>
                <a:gridCol w="865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 «Управление муниципальным имуществом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доставление субсидии на финансовое обеспечение затрат МУП «Лебяжская автоколонн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жевание земельных участков, выполнение кадастровых рабо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я и проведение независимой оценки объектов, предоставляемых на конкурсной основе в аренду, управление муниципальной собственность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«Управление муниципальными финансами и регулирование межбюджетных отношени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4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1398"/>
                    </a:solidFill>
                  </a:tcPr>
                </a:tc>
              </a:tr>
            </a:tbl>
          </a:graphicData>
        </a:graphic>
      </p:graphicFrame>
      <p:sp>
        <p:nvSpPr>
          <p:cNvPr id="21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B3EBF5-4C3C-4A50-8001-095E41102692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5" descr="surveyor.jpg"/>
          <p:cNvPicPr/>
          <p:nvPr/>
        </p:nvPicPr>
        <p:blipFill>
          <a:blip r:embed="rId1"/>
          <a:stretch/>
        </p:blipFill>
        <p:spPr>
          <a:xfrm>
            <a:off x="179280" y="907920"/>
            <a:ext cx="34560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ые программы общего характера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79280" y="620640"/>
          <a:ext cx="8785440" cy="6048360"/>
        </p:xfrm>
        <a:graphic>
          <a:graphicData uri="http://schemas.openxmlformats.org/drawingml/2006/table">
            <a:tbl>
              <a:tblPr/>
              <a:tblGrid>
                <a:gridCol w="5545080"/>
                <a:gridCol w="1295640"/>
                <a:gridCol w="1079280"/>
                <a:gridCol w="865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 «Развитие муниципального управлен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77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52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ункционирование деятельности администрации Лебяжского района и структурных подразделений администр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0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14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9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еспечение хозяйственной деятельности администрации района  и структурных подразделений администрации рай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7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6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полномочий субъекта Российской Федерации за счет передаваемых субвен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3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2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платы к пенсиям муниципальным служащ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готовка кадров специалистов в сфере размещения заказ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служивание муниципального долга М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</a:tr>
            </a:tbl>
          </a:graphicData>
        </a:graphic>
      </p:graphicFrame>
      <p:sp>
        <p:nvSpPr>
          <p:cNvPr id="21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407AAA-1047-4B9C-8B76-FED895E6DEB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79280" y="776160"/>
            <a:ext cx="3024360" cy="11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f0f7"/>
                </a:solidFill>
                <a:latin typeface="Arial"/>
                <a:ea typeface="Arial"/>
              </a:rPr>
              <a:t>Муниципальные программы  поддержки отраслей экономики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50920" y="1484280"/>
          <a:ext cx="8640720" cy="5180040"/>
        </p:xfrm>
        <a:graphic>
          <a:graphicData uri="http://schemas.openxmlformats.org/drawingml/2006/table">
            <a:tbl>
              <a:tblPr/>
              <a:tblGrid>
                <a:gridCol w="4895640"/>
                <a:gridCol w="1670040"/>
                <a:gridCol w="1343160"/>
                <a:gridCol w="73188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 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цент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ниципальная программа «Развитие коммунальной и жилищной инфраструкту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ализация инвестиционных программ и проектов  развитие общественной инфраструктуры Михеевского сельского по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роприятия по благоустройству межпоселенческого кладбищ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1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BB7996-A6AB-4477-B09A-7698AF55C38C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5" descr="45763.jpg"/>
          <p:cNvPicPr/>
          <p:nvPr/>
        </p:nvPicPr>
        <p:blipFill>
          <a:blip r:embed="rId1"/>
          <a:stretch/>
        </p:blipFill>
        <p:spPr>
          <a:xfrm>
            <a:off x="250920" y="1484280"/>
            <a:ext cx="30258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f0f7"/>
                </a:solidFill>
                <a:latin typeface="Arial"/>
                <a:ea typeface="Arial"/>
              </a:rPr>
              <a:t>Меры социальной поддержки ,предоставляемые из бюджета муниципального район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79280" y="996840"/>
          <a:ext cx="8785440" cy="5631120"/>
        </p:xfrm>
        <a:graphic>
          <a:graphicData uri="http://schemas.openxmlformats.org/drawingml/2006/table">
            <a:tbl>
              <a:tblPr/>
              <a:tblGrid>
                <a:gridCol w="4753080"/>
                <a:gridCol w="1079640"/>
                <a:gridCol w="1584360"/>
                <a:gridCol w="136836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мер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циальной поддерж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лучателей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ыплаты в год на 1-го получателя,т.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асходов (тыс.руб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5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ая  компенсация расходов на оплату жилого помещения и коммунальных услуг в  виде ежемесячной денежной выплаты отдельным категориям специалистов, работающих и проживающих в сельских населенных пунктах или поселках городского ти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e1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e1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e1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e137"/>
                    </a:solidFill>
                  </a:tcPr>
                </a:tc>
              </a:tr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ение руководителям.  педагогическим работникам и иным специалистам образовательных учреждений(за исключением совместителей), работающим и проживающим в сельских населенных пунктам(поселках городского типа) бесплатной жилой площади с отоплением и электроснабжением путем компенсации 100% расходов в виде ежемесячной денежной выпл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94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ение гражданам субсидий на оплату жилого помещения и коммунальных услуг(количество сем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68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68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68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6850"/>
                    </a:solidFill>
                  </a:tcPr>
                </a:tc>
              </a:tr>
            </a:tbl>
          </a:graphicData>
        </a:graphic>
      </p:graphicFrame>
      <p:sp>
        <p:nvSpPr>
          <p:cNvPr id="22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FE415F-160E-4AF8-B0AC-60C78E472627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5" descr="max_1358340423.jpg"/>
          <p:cNvPicPr/>
          <p:nvPr/>
        </p:nvPicPr>
        <p:blipFill>
          <a:blip r:embed="rId1"/>
          <a:stretch/>
        </p:blipFill>
        <p:spPr>
          <a:xfrm>
            <a:off x="179280" y="981000"/>
            <a:ext cx="1513080" cy="11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Расходы по выплатам отдельным категориям граждан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765000"/>
          <a:ext cx="8785440" cy="5758200"/>
        </p:xfrm>
        <a:graphic>
          <a:graphicData uri="http://schemas.openxmlformats.org/drawingml/2006/table">
            <a:tbl>
              <a:tblPr/>
              <a:tblGrid>
                <a:gridCol w="6480360"/>
                <a:gridCol w="1008000"/>
                <a:gridCol w="12970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874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874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ры социально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874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держ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личество получа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ъем расходов 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рав детей-сирот и детей, оставшихся без попечения родителей, лиц из числа детей-сирот и детей, оставшихся без попечения родителей, на жилое помещение в соответствии с Законом Кировской области «О социальной поддержке детей-сирот и детей, оставшихся без попечения родителей, лиц из числа детей-сирот и детей, оставшихся без попечения родителей, детей, попавших в сложную жизненную ситуацию»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сление и выплата компенсации платы, взимаемой с родителей (законных представителей) за присмотр и уход за детьми в образовательных организациях, реализующих образовательную программу дошкольного образовани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 и выплата ежемесячных денежных выплат на детей-сирот и детей, оставшихся без попечения родителей,   находящихся под опекой(попечительством),в приемной семь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сление и выплата ежемесячного вознаграждения, причитающегося приемным родителям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2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74FAA2-764C-4616-BD95-70CB0E2B58C6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5" descr="1333531798_reb2.jpg"/>
          <p:cNvPicPr/>
          <p:nvPr/>
        </p:nvPicPr>
        <p:blipFill>
          <a:blip r:embed="rId1"/>
          <a:stretch/>
        </p:blipFill>
        <p:spPr>
          <a:xfrm>
            <a:off x="179280" y="765000"/>
            <a:ext cx="273708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686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ef0f7"/>
                </a:solidFill>
                <a:latin typeface="Calibri"/>
                <a:ea typeface="Arial Unicode MS"/>
              </a:rPr>
              <a:t>РАСХОДЫ  НА  СОЦИАЛЬНУЮ </a:t>
            </a:r>
            <a:br>
              <a:rPr sz="2800"/>
            </a:br>
            <a:r>
              <a:rPr b="1" lang="en-GB" sz="2800" spc="-1" strike="noStrike">
                <a:solidFill>
                  <a:srgbClr val="5ef0f7"/>
                </a:solidFill>
                <a:latin typeface="Calibri"/>
                <a:ea typeface="Arial Unicode MS"/>
              </a:rPr>
              <a:t>ПОЛИТИКУ, </a:t>
            </a:r>
            <a:r>
              <a:rPr b="1" lang="ru-RU" sz="2400" spc="-1" strike="noStrike">
                <a:solidFill>
                  <a:srgbClr val="5ef0f7"/>
                </a:solidFill>
                <a:latin typeface="Arial"/>
                <a:ea typeface="Arial Unicode MS"/>
              </a:rPr>
              <a:t>тыс.руб</a:t>
            </a: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 Unicode MS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14200" y="907920"/>
          <a:ext cx="8715600" cy="5600880"/>
        </p:xfrm>
        <a:graphic>
          <a:graphicData uri="http://schemas.openxmlformats.org/drawingml/2006/table">
            <a:tbl>
              <a:tblPr/>
              <a:tblGrid>
                <a:gridCol w="4862520"/>
                <a:gridCol w="1224000"/>
                <a:gridCol w="1440000"/>
                <a:gridCol w="1189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2015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 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 72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 36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2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2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обеспечение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 25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 919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на оплату Ж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я на оплату коммунальных услуг специалистам с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9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9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122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жильем молодых семей и граждан, проживающих в сельской местности  за счет ФЦП, ОЦП и МЦП «Дом для молодой семь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 136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 12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е денежные выплаты на детей-сирот и вознаграждение причитающееся приемному родител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ba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2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a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2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30" name="Номер слайда 3"/>
          <p:cNvSpPr/>
          <p:nvPr/>
        </p:nvSpPr>
        <p:spPr>
          <a:xfrm>
            <a:off x="8191440" y="6021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370525-C3CF-4D2B-9657-3FC95FA9962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Рисунок 28" descr="soc.jpg"/>
          <p:cNvPicPr/>
          <p:nvPr/>
        </p:nvPicPr>
        <p:blipFill>
          <a:blip r:embed="rId1"/>
          <a:stretch/>
        </p:blipFill>
        <p:spPr>
          <a:xfrm>
            <a:off x="324000" y="260280"/>
            <a:ext cx="302400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58760" y="165240"/>
            <a:ext cx="8978760" cy="895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2"/>
          <p:cNvSpPr/>
          <p:nvPr/>
        </p:nvSpPr>
        <p:spPr>
          <a:xfrm>
            <a:off x="684360" y="1341360"/>
            <a:ext cx="7775280" cy="1943280"/>
          </a:xfrm>
          <a:prstGeom prst="rect">
            <a:avLst/>
          </a:prstGeom>
          <a:solidFill>
            <a:srgbClr val="c8e3fb"/>
          </a:solidFill>
          <a:ln w="25560">
            <a:solidFill>
              <a:srgbClr val="91c6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целях повышения результативности бюджетных расходов их формирование осуществлялось в соответствии с ведомственными перечнями муниципальных услуг и работ, оказываемых (выполняемых) муниципальными казенными учреждениями в качестве основных видов деятельности, и показателями, характеризующими объем оказываемых муниципальных услуг (выполняемых работ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Скругленный прямоугольник 3"/>
          <p:cNvSpPr/>
          <p:nvPr/>
        </p:nvSpPr>
        <p:spPr>
          <a:xfrm>
            <a:off x="3995640" y="3429000"/>
            <a:ext cx="4753080" cy="3168720"/>
          </a:xfrm>
          <a:prstGeom prst="roundRect">
            <a:avLst>
              <a:gd name="adj" fmla="val 16667"/>
            </a:avLst>
          </a:prstGeom>
          <a:solidFill>
            <a:srgbClr val="c8e3fb"/>
          </a:solidFill>
          <a:ln w="25560">
            <a:solidFill>
              <a:srgbClr val="91c6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едомственные перечни оказываемых муниципальных  услуг (выполняемых работ) утверждены главными распорядителями средств бюджета муниципального района  в соответствии с базовыми (отраслевыми) перечнями  государственных и муниципальных услуг и работ, утвержденными федеральными органами исполнительной власт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539640" y="3645000"/>
            <a:ext cx="2951280" cy="2879640"/>
          </a:xfrm>
          <a:prstGeom prst="rect">
            <a:avLst/>
          </a:prstGeom>
          <a:solidFill>
            <a:srgbClr val="c8e3fb"/>
          </a:solidFill>
          <a:ln w="25560">
            <a:solidFill>
              <a:srgbClr val="91c6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900" spc="-1" strike="noStrike">
                <a:solidFill>
                  <a:srgbClr val="02303e"/>
                </a:solidFill>
                <a:latin typeface="Calibri"/>
              </a:rPr>
              <a:t>Бюджет сформирован по муниципальным услугам (работам), оказываемым (выполняемым) в отраслях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2303e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9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2303e"/>
                </a:solidFill>
                <a:latin typeface="Calibri"/>
              </a:rPr>
              <a:t>образовани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2303e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9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2303e"/>
                </a:solidFill>
                <a:latin typeface="Calibri"/>
              </a:rPr>
              <a:t>культура и кинематограф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EB9538-0FE6-4BED-B9DD-36C1DCFEBDF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казатели социально-экономического развития   Лебяжского райо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123920"/>
          <a:ext cx="8642160" cy="5329440"/>
        </p:xfrm>
        <a:graphic>
          <a:graphicData uri="http://schemas.openxmlformats.org/drawingml/2006/table">
            <a:tbl>
              <a:tblPr/>
              <a:tblGrid>
                <a:gridCol w="6337080"/>
                <a:gridCol w="1202040"/>
                <a:gridCol w="11030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показа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быль прибыльных предприятий, 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9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декс физического объема платных услуг населению 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декса потребительских цен за период с начала года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декс –дефлятор объема платных услуг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еднемесячная номинальная начисленная заработная плата, руб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вестиции в основной капитал, 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23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1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гружено товаров собственного производства , выполнено работ и услуг собственными силами, 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4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06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в действие жилых домов, кв.м. общей площа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орот розничной торговли, 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284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284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11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01ADC8-B189-4900-996D-9C97A8ABF607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04BB11-953D-4DE8-A3C7-5211E082128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2920" y="1268280"/>
          <a:ext cx="8821800" cy="5256360"/>
        </p:xfrm>
        <a:graphic>
          <a:graphicData uri="http://schemas.openxmlformats.org/drawingml/2006/table">
            <a:tbl>
              <a:tblPr/>
              <a:tblGrid>
                <a:gridCol w="2413080"/>
                <a:gridCol w="1079280"/>
                <a:gridCol w="1008000"/>
                <a:gridCol w="1611360"/>
                <a:gridCol w="1481400"/>
                <a:gridCol w="122868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учреж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исленность рабо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хват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ы на содержание учреждений за год, 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ы на  одного ребенка (учащегося) ,руб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дошкольные учре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али 127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23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8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ые шко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лос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3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71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9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-юношеская спортивная шко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ч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5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4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 детского твор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лос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6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школа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лос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9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1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37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</a:tr>
            </a:tbl>
          </a:graphicData>
        </a:graphic>
      </p:graphicFrame>
      <p:sp>
        <p:nvSpPr>
          <p:cNvPr id="239" name="TextBox 6"/>
          <p:cNvSpPr/>
          <p:nvPr/>
        </p:nvSpPr>
        <p:spPr>
          <a:xfrm>
            <a:off x="324000" y="14292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94f5fa"/>
                </a:solidFill>
                <a:latin typeface="Arial"/>
              </a:rPr>
              <a:t>Система образования в 2015 год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Arial"/>
              </a:rPr>
              <a:t>12 муниципальных учреждений с численностью 287 един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Рисунок 4" descr="249182109.jpg"/>
          <p:cNvPicPr/>
          <p:nvPr/>
        </p:nvPicPr>
        <p:blipFill>
          <a:blip r:embed="rId1"/>
          <a:stretch/>
        </p:blipFill>
        <p:spPr>
          <a:xfrm>
            <a:off x="250920" y="1052640"/>
            <a:ext cx="218592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бщее образова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827A3B-C60A-4137-8675-5A28FF6C5B0D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539640" y="907920"/>
            <a:ext cx="8209080" cy="360360"/>
          </a:xfrm>
          <a:prstGeom prst="rect">
            <a:avLst/>
          </a:prstGeom>
          <a:solidFill>
            <a:srgbClr val="dbe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Arial"/>
              </a:rPr>
              <a:t>Показатели нагрузки на одного работ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24000" y="1550880"/>
          <a:ext cx="8569080" cy="4902480"/>
        </p:xfrm>
        <a:graphic>
          <a:graphicData uri="http://schemas.openxmlformats.org/drawingml/2006/table">
            <a:tbl>
              <a:tblPr/>
              <a:tblGrid>
                <a:gridCol w="4967280"/>
                <a:gridCol w="1081080"/>
                <a:gridCol w="936360"/>
                <a:gridCol w="15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 роста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штатная численность  учреждении общего образования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писочная численность педагогических работников  учреждений общего образования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обучающихся в общеобразовательных учреждениях, человек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учающихся на одного педагогического работника в учреждениях общего образования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учающихся на одного штатного работника в учреждениях общего образования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ополнительное образование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ca06c1"/>
                </a:solidFill>
                <a:latin typeface="Arial"/>
                <a:ea typeface="Arial"/>
              </a:rPr>
              <a:t>ДШИ,   ДЮСШ,   Дом творчества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CDF429-5AF5-4309-81A0-BAFCDD048A08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5"/>
          <p:cNvSpPr/>
          <p:nvPr/>
        </p:nvSpPr>
        <p:spPr>
          <a:xfrm>
            <a:off x="539640" y="907920"/>
            <a:ext cx="8209080" cy="433440"/>
          </a:xfrm>
          <a:prstGeom prst="rect">
            <a:avLst/>
          </a:prstGeom>
          <a:solidFill>
            <a:srgbClr val="dbe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2303e"/>
                </a:solidFill>
                <a:latin typeface="Arial"/>
              </a:rPr>
              <a:t>Показатели нагрузки на одного работ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5280" y="1539720"/>
          <a:ext cx="8496360" cy="4923000"/>
        </p:xfrm>
        <a:graphic>
          <a:graphicData uri="http://schemas.openxmlformats.org/drawingml/2006/table">
            <a:tbl>
              <a:tblPr/>
              <a:tblGrid>
                <a:gridCol w="5040360"/>
                <a:gridCol w="1100160"/>
                <a:gridCol w="1060560"/>
                <a:gridCol w="1295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роста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штатная численность  учреждении дополнительного образования дете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писочная численность педагогических работников  учреждений дополнительного образования дете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обучающихся в учреждениях дополнительного образования детей, человек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учающихся на одного педагогического работника в учреждениях дополнительного образования дете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учающихся на одного штатного работника в учреждениях дополнительного образования дете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D67E9A-C4C0-43BA-B913-5A912DBD5D9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2920" y="1339920"/>
          <a:ext cx="8750160" cy="5257800"/>
        </p:xfrm>
        <a:graphic>
          <a:graphicData uri="http://schemas.openxmlformats.org/drawingml/2006/table">
            <a:tbl>
              <a:tblPr/>
              <a:tblGrid>
                <a:gridCol w="1476360"/>
                <a:gridCol w="649080"/>
                <a:gridCol w="863640"/>
                <a:gridCol w="2160720"/>
                <a:gridCol w="1295280"/>
                <a:gridCol w="1224000"/>
                <a:gridCol w="1081080"/>
              </a:tblGrid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режд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работник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предоставляемых услу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едоставленных услу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содержание учреждений за год, тыс.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единицы муниципальной услуги,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изованная клуб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 по обеспечению творческой деятельности граждан  через клубные формирования, услуги по постановке концертных програм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 мероприятий – 62 7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45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изованная библиотеч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 по организации библиотечного обслуживания населе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ниговыдач – 110 60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33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едческий музе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 по созданию и поддержке районного музе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ещений – 4 1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61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cf949"/>
                    </a:solidFill>
                  </a:tcPr>
                </a:tc>
              </a:tr>
            </a:tbl>
          </a:graphicData>
        </a:graphic>
      </p:graphicFrame>
      <p:sp>
        <p:nvSpPr>
          <p:cNvPr id="251" name="TextBox 6"/>
          <p:cNvSpPr/>
          <p:nvPr/>
        </p:nvSpPr>
        <p:spPr>
          <a:xfrm>
            <a:off x="324000" y="142920"/>
            <a:ext cx="8677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4f5fa"/>
                </a:solidFill>
                <a:latin typeface="Calibri"/>
                <a:ea typeface="Times New Roman"/>
              </a:rPr>
              <a:t>Система учреждений культуры и перечень предоставляемых услуг  в 2015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3 муниципальных учреждения с численностью 42 един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Рисунок 4" descr="livan2.jpg"/>
          <p:cNvPicPr/>
          <p:nvPr/>
        </p:nvPicPr>
        <p:blipFill>
          <a:blip r:embed="rId1"/>
          <a:stretch/>
        </p:blipFill>
        <p:spPr>
          <a:xfrm>
            <a:off x="179280" y="1413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ыполнение муниципального зад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Содержимое 4" descr=""/>
          <p:cNvPicPr/>
          <p:nvPr/>
        </p:nvPicPr>
        <p:blipFill>
          <a:blip r:embed="rId1"/>
          <a:stretch/>
        </p:blipFill>
        <p:spPr>
          <a:xfrm>
            <a:off x="231840" y="2262240"/>
            <a:ext cx="8680320" cy="4614840"/>
          </a:xfrm>
          <a:prstGeom prst="rect">
            <a:avLst/>
          </a:prstGeom>
          <a:ln w="0">
            <a:noFill/>
          </a:ln>
        </p:spPr>
      </p:pic>
      <p:sp>
        <p:nvSpPr>
          <p:cNvPr id="25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C12B7E-A4AD-43D7-AD11-486756DBF5B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611280" y="836640"/>
            <a:ext cx="7848360" cy="1368360"/>
          </a:xfrm>
          <a:prstGeom prst="rect">
            <a:avLst/>
          </a:prstGeom>
          <a:solidFill>
            <a:srgbClr val="f088d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Государственное (муниципальное) задание – документ, устанавливающий требования к составу , качеству и (или) объему (содержанию),условиям, порядку и  результатам оказания государственных (муниципальных) услуг (выполнения работ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317520" y="0"/>
            <a:ext cx="8588520" cy="1200240"/>
          </a:xfrm>
          <a:prstGeom prst="rect">
            <a:avLst/>
          </a:prstGeom>
          <a:ln w="0">
            <a:noFill/>
          </a:ln>
        </p:spPr>
      </p:pic>
      <p:sp>
        <p:nvSpPr>
          <p:cNvPr id="258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735686-F2CE-44FB-A24E-CD6F6048BAE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кругленный прямоугольник 4"/>
          <p:cNvSpPr/>
          <p:nvPr/>
        </p:nvSpPr>
        <p:spPr>
          <a:xfrm>
            <a:off x="684360" y="5229360"/>
            <a:ext cx="7991280" cy="1295280"/>
          </a:xfrm>
          <a:prstGeom prst="roundRect">
            <a:avLst>
              <a:gd name="adj" fmla="val 16667"/>
            </a:avLst>
          </a:prstGeom>
          <a:solidFill>
            <a:srgbClr val="55a83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bbaad"/>
                </a:solidFill>
                <a:latin typeface="Times New Roman"/>
                <a:ea typeface="Times New Roman"/>
              </a:rPr>
              <a:t>Получателями субсидии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bbaa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bbaad"/>
                </a:solidFill>
                <a:latin typeface="Times New Roman"/>
                <a:ea typeface="Times New Roman"/>
              </a:rPr>
              <a:t>14  личных подсобных хозяйств;  4 крестьянско-фермерским хозяйства;  2 сельскохозяйственных предприя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трелка вправо 9"/>
          <p:cNvSpPr/>
          <p:nvPr/>
        </p:nvSpPr>
        <p:spPr>
          <a:xfrm rot="289200">
            <a:off x="4221000" y="3754440"/>
            <a:ext cx="1011240" cy="754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7e9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Схема 6" descr=""/>
          <p:cNvPicPr/>
          <p:nvPr/>
        </p:nvPicPr>
        <p:blipFill>
          <a:blip r:embed="rId2"/>
          <a:stretch/>
        </p:blipFill>
        <p:spPr>
          <a:xfrm>
            <a:off x="378000" y="1407960"/>
            <a:ext cx="8461080" cy="35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f0f7"/>
                </a:solidFill>
                <a:latin typeface="Calibri"/>
              </a:rPr>
              <a:t>Предоставление  субсидий юридическим лицам, индивидуальным предпринимателям и физическим лицам – производителям товаров, работ, услуг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A2358A-D85F-45EF-BCE8-A5579F9DF88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Содержимое 6" descr=""/>
          <p:cNvPicPr/>
          <p:nvPr/>
        </p:nvPicPr>
        <p:blipFill>
          <a:blip r:embed="rId1"/>
          <a:stretch/>
        </p:blipFill>
        <p:spPr>
          <a:xfrm>
            <a:off x="450720" y="1468440"/>
            <a:ext cx="8296560" cy="540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17272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2600" spc="-1" strike="noStrike">
                <a:solidFill>
                  <a:srgbClr val="5ef0f7"/>
                </a:solidFill>
                <a:latin typeface="Calibri"/>
              </a:rPr>
              <a:t>Предоставление  субсидий юридическим лицам, индивидуальным предпринимателям и физическим лицам –  производителям товаров, работ, услуг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Содержимое 5" descr=""/>
          <p:cNvPicPr/>
          <p:nvPr/>
        </p:nvPicPr>
        <p:blipFill>
          <a:blip r:embed="rId1"/>
          <a:stretch/>
        </p:blipFill>
        <p:spPr>
          <a:xfrm>
            <a:off x="378000" y="2262240"/>
            <a:ext cx="8448480" cy="43513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E46A23-DCD8-41BD-9F3D-D426519DC215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http://znamya.ucoz.ru/Foto-operator-1/10-2014/25_avtokol.jpg"/>
          <p:cNvPicPr/>
          <p:nvPr/>
        </p:nvPicPr>
        <p:blipFill>
          <a:blip r:embed="rId2"/>
          <a:stretch/>
        </p:blipFill>
        <p:spPr>
          <a:xfrm>
            <a:off x="468360" y="1341360"/>
            <a:ext cx="259092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 Unicode MS"/>
              </a:rPr>
              <a:t>С</a:t>
            </a:r>
            <a:r>
              <a:rPr b="1" lang="en-GB" sz="2800" spc="-1" strike="noStrike">
                <a:solidFill>
                  <a:srgbClr val="5ef0f7"/>
                </a:solidFill>
                <a:latin typeface="Arial"/>
                <a:ea typeface="Arial Unicode MS"/>
              </a:rPr>
              <a:t>труктура межбюджетных </a:t>
            </a: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5ef0f7"/>
                </a:solidFill>
                <a:latin typeface="Arial"/>
                <a:ea typeface="Arial Unicode MS"/>
              </a:rPr>
              <a:t>трансфертов бюджет</a:t>
            </a: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 Unicode MS"/>
              </a:rPr>
              <a:t>ам</a:t>
            </a:r>
            <a:r>
              <a:rPr b="1" lang="en-GB" sz="2800" spc="-1" strike="noStrike">
                <a:solidFill>
                  <a:srgbClr val="5ef0f7"/>
                </a:solidFill>
                <a:latin typeface="Arial"/>
                <a:ea typeface="Arial Unicode MS"/>
              </a:rPr>
              <a:t> поселений</a:t>
            </a:r>
            <a:r>
              <a:rPr b="1" lang="en-GB" sz="2400" spc="-1" strike="noStrike">
                <a:solidFill>
                  <a:srgbClr val="5ef0f7"/>
                </a:solidFill>
                <a:latin typeface="Arial"/>
                <a:ea typeface="Arial Unicode MS"/>
              </a:rPr>
              <a:t>, </a:t>
            </a:r>
            <a:r>
              <a:rPr b="1" lang="ru-RU" sz="2400" spc="-1" strike="noStrike">
                <a:solidFill>
                  <a:srgbClr val="5ef0f7"/>
                </a:solidFill>
                <a:latin typeface="Arial"/>
                <a:ea typeface="Arial Unicode MS"/>
              </a:rPr>
              <a:t>тыс</a:t>
            </a:r>
            <a:r>
              <a:rPr b="1" lang="en-GB" sz="2400" spc="-1" strike="noStrike">
                <a:solidFill>
                  <a:srgbClr val="5ef0f7"/>
                </a:solidFill>
                <a:latin typeface="Arial"/>
                <a:ea typeface="Arial Unicode MS"/>
              </a:rPr>
              <a:t>.руб</a:t>
            </a:r>
            <a:r>
              <a:rPr b="1" lang="en-GB" sz="2800" spc="-1" strike="noStrike">
                <a:solidFill>
                  <a:srgbClr val="5ef0f7"/>
                </a:solidFill>
                <a:latin typeface="Arial"/>
                <a:ea typeface="Arial Unicode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253C0F-52D0-4F29-A84D-B298E4BBBC19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Диаграмма 7" descr=""/>
          <p:cNvPicPr/>
          <p:nvPr/>
        </p:nvPicPr>
        <p:blipFill>
          <a:blip r:embed="rId1"/>
          <a:stretch/>
        </p:blipFill>
        <p:spPr>
          <a:xfrm>
            <a:off x="50760" y="1362240"/>
            <a:ext cx="9144000" cy="55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4f5fa"/>
                </a:solidFill>
                <a:latin typeface="Calibri"/>
              </a:rPr>
              <a:t>Межбюджетные трансферты, предоставляемые местным бюджетам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Содержимое 5" descr=""/>
          <p:cNvPicPr/>
          <p:nvPr/>
        </p:nvPicPr>
        <p:blipFill>
          <a:blip r:embed="rId1"/>
          <a:stretch/>
        </p:blipFill>
        <p:spPr>
          <a:xfrm>
            <a:off x="272880" y="1362240"/>
            <a:ext cx="4140360" cy="5546520"/>
          </a:xfrm>
          <a:prstGeom prst="rect">
            <a:avLst/>
          </a:prstGeom>
          <a:ln w="0">
            <a:noFill/>
          </a:ln>
        </p:spPr>
      </p:pic>
      <p:pic>
        <p:nvPicPr>
          <p:cNvPr id="275" name="Содержимое 6" descr=""/>
          <p:cNvPicPr/>
          <p:nvPr/>
        </p:nvPicPr>
        <p:blipFill>
          <a:blip r:embed="rId2"/>
          <a:stretch/>
        </p:blipFill>
        <p:spPr>
          <a:xfrm>
            <a:off x="4592520" y="1217520"/>
            <a:ext cx="4140360" cy="3268800"/>
          </a:xfrm>
          <a:prstGeom prst="rect">
            <a:avLst/>
          </a:prstGeom>
          <a:ln w="0">
            <a:noFill/>
          </a:ln>
        </p:spPr>
      </p:pic>
      <p:sp>
        <p:nvSpPr>
          <p:cNvPr id="276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218763-95DF-48CF-92C7-98CCE639571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Прямоугольник 7"/>
          <p:cNvGrpSpPr/>
          <p:nvPr/>
        </p:nvGrpSpPr>
        <p:grpSpPr>
          <a:xfrm>
            <a:off x="4767120" y="4273560"/>
            <a:ext cx="3919680" cy="2193840"/>
            <a:chOff x="4767120" y="4273560"/>
            <a:chExt cx="3919680" cy="2193840"/>
          </a:xfrm>
        </p:grpSpPr>
        <p:pic>
          <p:nvPicPr>
            <p:cNvPr id="27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767120" y="4273560"/>
              <a:ext cx="391968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788000" y="4292640"/>
              <a:ext cx="388764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убсидии</a:t>
              </a: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– </a:t>
              </a:r>
              <a:r>
                <a:rPr b="1" lang="ru-RU" sz="19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редства, передаваемые безвозмездно из одного уровня бюджета другому для софинансирования их полномочий (например, для строительства  дорог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Прямоугольник 8"/>
          <p:cNvSpPr/>
          <p:nvPr/>
        </p:nvSpPr>
        <p:spPr>
          <a:xfrm>
            <a:off x="2987640" y="1844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7,0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9"/>
          <p:cNvSpPr/>
          <p:nvPr/>
        </p:nvSpPr>
        <p:spPr>
          <a:xfrm>
            <a:off x="7236000" y="177336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8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4"/>
          <p:cNvSpPr/>
          <p:nvPr/>
        </p:nvSpPr>
        <p:spPr>
          <a:xfrm>
            <a:off x="8215200" y="6357960"/>
            <a:ext cx="74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C3811A-545E-47DD-8111-447B404D4E42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7" descr="бюджет 2014-2016.jpg"/>
          <p:cNvPicPr/>
          <p:nvPr/>
        </p:nvPicPr>
        <p:blipFill>
          <a:blip r:embed="rId1"/>
          <a:stretch/>
        </p:blipFill>
        <p:spPr>
          <a:xfrm>
            <a:off x="0" y="404640"/>
            <a:ext cx="297180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Диаграмма 8"/>
          <p:cNvGraphicFramePr/>
          <p:nvPr/>
        </p:nvGraphicFramePr>
        <p:xfrm>
          <a:off x="250920" y="1773360"/>
          <a:ext cx="8578800" cy="487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Диаграмма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73360"/>
                    <a:ext cx="85788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Box 9"/>
          <p:cNvSpPr/>
          <p:nvPr/>
        </p:nvSpPr>
        <p:spPr>
          <a:xfrm>
            <a:off x="3286080" y="33336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alibri"/>
              </a:rPr>
              <a:t>ОСНОВНЫЕ      ХАРАКТЕРИСТИКИ  ИСПОЛНЕНИЯ БЮДЖЕТА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лн.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4f5fa"/>
                </a:solidFill>
                <a:latin typeface="Calibri"/>
              </a:rPr>
              <a:t>Межбюджетные трансферты, предоставляемые местным бюджетам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3" name="Содержимое 5" descr=""/>
          <p:cNvPicPr/>
          <p:nvPr/>
        </p:nvPicPr>
        <p:blipFill>
          <a:blip r:embed="rId1"/>
          <a:stretch/>
        </p:blipFill>
        <p:spPr>
          <a:xfrm>
            <a:off x="344520" y="3954600"/>
            <a:ext cx="4140000" cy="2765160"/>
          </a:xfrm>
          <a:prstGeom prst="rect">
            <a:avLst/>
          </a:prstGeom>
          <a:ln w="0">
            <a:noFill/>
          </a:ln>
        </p:spPr>
      </p:pic>
      <p:pic>
        <p:nvPicPr>
          <p:cNvPr id="284" name="Содержимое 6" descr=""/>
          <p:cNvPicPr/>
          <p:nvPr/>
        </p:nvPicPr>
        <p:blipFill>
          <a:blip r:embed="rId2"/>
          <a:stretch/>
        </p:blipFill>
        <p:spPr>
          <a:xfrm>
            <a:off x="4597560" y="3573360"/>
            <a:ext cx="4140000" cy="2735280"/>
          </a:xfrm>
          <a:prstGeom prst="rect">
            <a:avLst/>
          </a:prstGeom>
          <a:ln w="0">
            <a:noFill/>
          </a:ln>
        </p:spPr>
      </p:pic>
      <p:sp>
        <p:nvSpPr>
          <p:cNvPr id="285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FAD1D7-C852-4E21-B02B-DFE98EC3169B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Прямоугольник 7"/>
          <p:cNvGrpSpPr/>
          <p:nvPr/>
        </p:nvGrpSpPr>
        <p:grpSpPr>
          <a:xfrm>
            <a:off x="4767120" y="1828800"/>
            <a:ext cx="3919680" cy="1395360"/>
            <a:chOff x="4767120" y="1828800"/>
            <a:chExt cx="3919680" cy="1395360"/>
          </a:xfrm>
        </p:grpSpPr>
        <p:pic>
          <p:nvPicPr>
            <p:cNvPr id="287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767120" y="1828800"/>
              <a:ext cx="39196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88000" y="1844640"/>
              <a:ext cx="38876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ные МБТ-  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целевые межбюджетные трансфер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Скругленный прямоугольник 8"/>
          <p:cNvSpPr/>
          <p:nvPr/>
        </p:nvSpPr>
        <p:spPr>
          <a:xfrm>
            <a:off x="2843280" y="1557360"/>
            <a:ext cx="1152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,0 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9"/>
          <p:cNvSpPr/>
          <p:nvPr/>
        </p:nvSpPr>
        <p:spPr>
          <a:xfrm>
            <a:off x="7817400" y="37162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,0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Прямоугольник 9"/>
          <p:cNvGrpSpPr/>
          <p:nvPr/>
        </p:nvGrpSpPr>
        <p:grpSpPr>
          <a:xfrm>
            <a:off x="590400" y="1468440"/>
            <a:ext cx="3921120" cy="2262240"/>
            <a:chOff x="590400" y="1468440"/>
            <a:chExt cx="3921120" cy="2262240"/>
          </a:xfrm>
        </p:grpSpPr>
        <p:pic>
          <p:nvPicPr>
            <p:cNvPr id="29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590400" y="1468440"/>
              <a:ext cx="392112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11280" y="1484280"/>
              <a:ext cx="388764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убвенции</a:t>
              </a: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редства, передаваемые безвозмездно из одного уровня бюджета другому для осуществления переданных государственных полномочи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Прямоугольник 11"/>
          <p:cNvSpPr/>
          <p:nvPr/>
        </p:nvSpPr>
        <p:spPr>
          <a:xfrm>
            <a:off x="2992320" y="40766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,0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f0f7"/>
                </a:solidFill>
                <a:latin typeface="Arial"/>
                <a:ea typeface="Arial"/>
              </a:rPr>
              <a:t>Дотации из бюджета муниципального района, </a:t>
            </a:r>
            <a:r>
              <a:rPr b="1" lang="ru-RU" sz="2400" spc="-1" strike="noStrike">
                <a:solidFill>
                  <a:srgbClr val="5ef0f7"/>
                </a:solidFill>
                <a:latin typeface="Arial"/>
                <a:ea typeface="Arial"/>
              </a:rPr>
              <a:t>тыс.руб</a:t>
            </a:r>
            <a:r>
              <a:rPr b="1" lang="ru-RU" sz="3200" spc="-1" strike="noStrike">
                <a:solidFill>
                  <a:srgbClr val="5ef0f7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4040280" cy="9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тация на выравнивание бюджетной обеспеченн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4720" y="1125000"/>
            <a:ext cx="4041720" cy="79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76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тация на поддержку мер по обеспечению сбалансированности бюджет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Содержимое 8" descr=""/>
          <p:cNvPicPr/>
          <p:nvPr/>
        </p:nvPicPr>
        <p:blipFill>
          <a:blip r:embed="rId1"/>
          <a:stretch/>
        </p:blipFill>
        <p:spPr>
          <a:xfrm>
            <a:off x="272880" y="1938240"/>
            <a:ext cx="4133880" cy="4616640"/>
          </a:xfrm>
          <a:prstGeom prst="rect">
            <a:avLst/>
          </a:prstGeom>
          <a:ln w="0">
            <a:noFill/>
          </a:ln>
        </p:spPr>
      </p:pic>
      <p:pic>
        <p:nvPicPr>
          <p:cNvPr id="299" name="Содержимое 10" descr=""/>
          <p:cNvPicPr/>
          <p:nvPr/>
        </p:nvPicPr>
        <p:blipFill>
          <a:blip r:embed="rId2"/>
          <a:stretch/>
        </p:blipFill>
        <p:spPr>
          <a:xfrm>
            <a:off x="4376880" y="2082960"/>
            <a:ext cx="4566960" cy="4349520"/>
          </a:xfrm>
          <a:prstGeom prst="rect">
            <a:avLst/>
          </a:prstGeom>
          <a:ln w="0">
            <a:noFill/>
          </a:ln>
        </p:spPr>
      </p:pic>
      <p:sp>
        <p:nvSpPr>
          <p:cNvPr id="300" name="Номер слайда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1FE07A-D10B-4D4B-B4C8-52881952076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8"/>
          <p:cNvSpPr/>
          <p:nvPr/>
        </p:nvSpPr>
        <p:spPr>
          <a:xfrm>
            <a:off x="7236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ошкин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324000" y="1268280"/>
          <a:ext cx="8569080" cy="511992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3384360"/>
              </a:tblGrid>
              <a:tr h="19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в рамках софинансирования инвестиционных программ   и проектов развития общественной инфраструктуры муниципальных образований    Кировской области (ППМ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на осуществление дорожной  деятельности в отношении     автомобильных дорог   общего  пользования населенных пун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31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ихеевское сельское поселение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,5 тыс.руб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емонт скважин в с.Красно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рнизация скважин в с.Вотско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5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ажское сельское поселение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,9 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ремонт участков дороги д.Индыгойка проект «Многолетняя мечта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ебяжское городское поселение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,0,0 тыс.руб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ремонт тротуаров по ул.Пионерская п.Лебяжь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«Доступная среда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0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B8B09E-F448-49B0-AB0F-6394A79AB050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Субсидии бюджетам поселений, тыс.руб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Рисунок 5" descr="дороги 5.jpg"/>
          <p:cNvPicPr/>
          <p:nvPr/>
        </p:nvPicPr>
        <p:blipFill>
          <a:blip r:embed="rId1"/>
          <a:stretch/>
        </p:blipFill>
        <p:spPr>
          <a:xfrm>
            <a:off x="5508720" y="5373720"/>
            <a:ext cx="273528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f5fa"/>
                </a:solidFill>
                <a:latin typeface="Arial"/>
                <a:ea typeface="Arial"/>
              </a:rPr>
              <a:t>Субвенции бюджетам поселений, предоставленные в 2015 году, тыс.руб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7" name="Содержимое 4" descr=""/>
          <p:cNvPicPr/>
          <p:nvPr/>
        </p:nvPicPr>
        <p:blipFill>
          <a:blip r:embed="rId1"/>
          <a:stretch/>
        </p:blipFill>
        <p:spPr>
          <a:xfrm>
            <a:off x="-255600" y="1841400"/>
            <a:ext cx="8948880" cy="3121200"/>
          </a:xfrm>
          <a:prstGeom prst="rect">
            <a:avLst/>
          </a:prstGeom>
          <a:ln w="0">
            <a:noFill/>
          </a:ln>
        </p:spPr>
      </p:pic>
      <p:sp>
        <p:nvSpPr>
          <p:cNvPr id="30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5C22E7-71F6-440A-8D4A-58D18D32F53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Блок-схема: процесс 7"/>
          <p:cNvSpPr/>
          <p:nvPr/>
        </p:nvSpPr>
        <p:spPr>
          <a:xfrm>
            <a:off x="250920" y="5661000"/>
            <a:ext cx="8569080" cy="1117800"/>
          </a:xfrm>
          <a:prstGeom prst="flowChartProcess">
            <a:avLst/>
          </a:prstGeom>
          <a:solidFill>
            <a:srgbClr val="11a71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венция по созданию и деятельности в муниципальных образованиях административных комиссий по рассмотрению дел об административных правонарушениях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бяжское городское поселение – 2,0 тыс.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8"/>
          <p:cNvSpPr/>
          <p:nvPr/>
        </p:nvSpPr>
        <p:spPr>
          <a:xfrm>
            <a:off x="250920" y="981000"/>
            <a:ext cx="8497800" cy="935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венция на осуществление полномочий  по первичному  воинскому учету на территориях, где  отсутствуют военные комиссариаты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3,6 тыс.руб., в том числ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324000" y="1197000"/>
          <a:ext cx="8569080" cy="5405400"/>
        </p:xfrm>
        <a:graphic>
          <a:graphicData uri="http://schemas.openxmlformats.org/drawingml/2006/table">
            <a:tbl>
              <a:tblPr/>
              <a:tblGrid>
                <a:gridCol w="4895640"/>
                <a:gridCol w="36734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ж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ихеев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ef0f7"/>
                    </a:solidFill>
                  </a:tcPr>
                </a:tc>
              </a:tr>
              <a:tr h="30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одержание муниципальной  пожарной охраны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,0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финансирование к переданным полномочиям по субсидии  на выделение земельных участков из земель сельхозназначения в счет невостребованных земельных долей, от права собственности от которой граждане отказались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 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емонт памятников и обелисков войнам – землякам ,погибшим в годы Великой Отечественной войн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1-1945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6 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7E8EBA-1F96-454D-A0A4-6F7156B19C4B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Иные межбюджетные трансферты бюджетам поселений, тыс.руб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4" name="Picture 2" descr="7_PM"/>
          <p:cNvPicPr/>
          <p:nvPr/>
        </p:nvPicPr>
        <p:blipFill>
          <a:blip r:embed="rId1"/>
          <a:srcRect l="0" t="0" r="22411" b="5399"/>
          <a:stretch/>
        </p:blipFill>
        <p:spPr>
          <a:xfrm>
            <a:off x="324000" y="170028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428760" y="1357200"/>
            <a:ext cx="8286480" cy="4857840"/>
          </a:xfrm>
          <a:prstGeom prst="rect">
            <a:avLst/>
          </a:prstGeom>
          <a:noFill/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В бюджете муниципального рай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были запланированы денежные средства на обслуживание муниципального долг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(процентные платежи по долговым обязательствам) в сумме 474,6 тыс.руб.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Направлено на погашение процентов 310,1 тыс.руб., остальные денежные средства были направлены на другие расходные обяза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697960" cy="852480"/>
          </a:xfrm>
          <a:prstGeom prst="rect">
            <a:avLst/>
          </a:prstGeom>
          <a:ln w="0">
            <a:noFill/>
          </a:ln>
        </p:spPr>
      </p:pic>
      <p:sp>
        <p:nvSpPr>
          <p:cNvPr id="317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C8116B-33D6-4D4E-BCF4-344F8640E43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97AE2E-94F9-43FD-8FB5-E8F084B56452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Скругленный прямоугольник 2"/>
          <p:cNvGrpSpPr/>
          <p:nvPr/>
        </p:nvGrpSpPr>
        <p:grpSpPr>
          <a:xfrm>
            <a:off x="115920" y="219240"/>
            <a:ext cx="8832960" cy="847440"/>
            <a:chOff x="115920" y="219240"/>
            <a:chExt cx="8832960" cy="847440"/>
          </a:xfrm>
        </p:grpSpPr>
        <p:pic>
          <p:nvPicPr>
            <p:cNvPr id="320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15920" y="219240"/>
              <a:ext cx="883296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14200" y="295200"/>
              <a:ext cx="86425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onstantia"/>
                </a:rPr>
                <a:t>Контактная информац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Box 3"/>
          <p:cNvSpPr/>
          <p:nvPr/>
        </p:nvSpPr>
        <p:spPr>
          <a:xfrm>
            <a:off x="142920" y="1428840"/>
            <a:ext cx="87868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d911d9"/>
                </a:solidFill>
                <a:latin typeface="Times New Roman"/>
                <a:ea typeface="Times New Roman"/>
              </a:rPr>
              <a:t>«Бюджет для граждан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d911d9"/>
                </a:solidFill>
                <a:latin typeface="Times New Roman"/>
                <a:ea typeface="Times New Roman"/>
              </a:rPr>
              <a:t>подготовлен финансовым управлением администр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d911d9"/>
                </a:solidFill>
                <a:latin typeface="Times New Roman"/>
                <a:ea typeface="Times New Roman"/>
              </a:rPr>
              <a:t>Лебяжского района Киров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ю о бюджете Вы можете получить по адресу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13500 пгт. Лебяжье, ул. Комсомольская, д. 5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л./факс 883344 2-01-50/2-03-74, а также на официальном сайте муниципального образования «Лебяжский район» в сети «Интернет»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www.lebyazhe43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7" descr="gerb-m.bmp"/>
          <p:cNvPicPr/>
          <p:nvPr/>
        </p:nvPicPr>
        <p:blipFill>
          <a:blip r:embed="rId2"/>
          <a:stretch/>
        </p:blipFill>
        <p:spPr>
          <a:xfrm>
            <a:off x="7643880" y="142920"/>
            <a:ext cx="1195200" cy="135720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9" descr="1818eab9.jpg"/>
          <p:cNvPicPr/>
          <p:nvPr/>
        </p:nvPicPr>
        <p:blipFill>
          <a:blip r:embed="rId3"/>
          <a:stretch/>
        </p:blipFill>
        <p:spPr>
          <a:xfrm>
            <a:off x="755640" y="4797360"/>
            <a:ext cx="763920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f0f7"/>
                </a:solidFill>
                <a:latin typeface="Calibri"/>
              </a:rPr>
              <a:t>Структура  доходов бюджета</a:t>
            </a:r>
            <a:r>
              <a:rPr b="0" lang="ru-RU" sz="3600" spc="-1" strike="noStrike">
                <a:solidFill>
                  <a:srgbClr val="5ef0f7"/>
                </a:solidFill>
                <a:latin typeface="Calibri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EBF1BA-97A1-4601-B84D-AD19F772B93C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Диаграмма 12" descr=""/>
          <p:cNvPicPr/>
          <p:nvPr/>
        </p:nvPicPr>
        <p:blipFill>
          <a:blip r:embed="rId1"/>
          <a:stretch/>
        </p:blipFill>
        <p:spPr>
          <a:xfrm>
            <a:off x="-231840" y="1074600"/>
            <a:ext cx="5148360" cy="583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Диаграмма 13"/>
          <p:cNvGraphicFramePr/>
          <p:nvPr/>
        </p:nvGraphicFramePr>
        <p:xfrm>
          <a:off x="5292720" y="2349360"/>
          <a:ext cx="3600360" cy="410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Диаграмма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2349360"/>
                    <a:ext cx="360036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Прямоугольник 6"/>
          <p:cNvSpPr/>
          <p:nvPr/>
        </p:nvSpPr>
        <p:spPr>
          <a:xfrm>
            <a:off x="324000" y="692280"/>
            <a:ext cx="882000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НАЛОГОВЫЕ ДОХОДЫ</a:t>
            </a: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часть доходов граждан и организаций, которые они обязаны заплат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государству (например, налог на доходы физических лиц, налог на прибыл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налог на имущество физических лиц, земельный налог, транспортный нало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и другие) – </a:t>
            </a:r>
            <a:r>
              <a:rPr b="1" lang="ru-RU" sz="2000" spc="-1" strike="noStrike">
                <a:solidFill>
                  <a:srgbClr val="ff9999"/>
                </a:solidFill>
                <a:latin typeface="Arial"/>
              </a:rPr>
              <a:t>16,1 млн.руб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НЕНАЛОГОВЫЕ ДОХОДЫ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латежи  в виде штрафов, санкций 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нарушение законодательства, платежи 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ользование имуществом государств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редства самообложения граждан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546422"/>
                </a:solidFill>
                <a:latin typeface="Arial"/>
              </a:rPr>
              <a:t>9,5 млн.руб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БЕЗВОЗМЕЗДНЫЕ ПОСТУПЛЕНИЯ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редства, которые поступают в бюдж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безвозмездно (денежные средст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оступающие из вышестояще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(например, дотации из област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бюджета), а также безвозмезд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еречисления от юридически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физических лиц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692360" y="1844640"/>
            <a:ext cx="1871640" cy="432000"/>
          </a:xfrm>
          <a:prstGeom prst="rect">
            <a:avLst/>
          </a:prstGeom>
          <a:solidFill>
            <a:srgbClr val="ca06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088d5"/>
                </a:solidFill>
                <a:latin typeface="Times New Roman"/>
                <a:ea typeface="Times New Roman"/>
              </a:rPr>
              <a:t>16,8 млн.руб</a:t>
            </a:r>
            <a:r>
              <a:rPr b="0" lang="ru-RU" sz="1800" spc="-1" strike="noStrike">
                <a:solidFill>
                  <a:srgbClr val="ff9999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395280" y="3789360"/>
            <a:ext cx="2089080" cy="503280"/>
          </a:xfrm>
          <a:prstGeom prst="rect">
            <a:avLst/>
          </a:prstGeom>
          <a:solidFill>
            <a:srgbClr val="a0e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546422"/>
                </a:solidFill>
                <a:latin typeface="Times New Roman"/>
                <a:ea typeface="Times New Roman"/>
              </a:rPr>
              <a:t>9,5  млн.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2627280" y="6308640"/>
            <a:ext cx="2160720" cy="360360"/>
          </a:xfrm>
          <a:prstGeom prst="rect">
            <a:avLst/>
          </a:prstGeom>
          <a:solidFill>
            <a:srgbClr val="7030a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8,7 млн.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Исполнение бюджета муниципального</a:t>
            </a:r>
            <a:br>
              <a:rPr sz="2800"/>
            </a:b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 района по доходам,</a:t>
            </a:r>
            <a:r>
              <a:rPr b="1" lang="ru-RU" sz="3200" spc="-1" strike="noStrike">
                <a:solidFill>
                  <a:srgbClr val="5ef0f7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млн.руб</a:t>
            </a:r>
            <a:r>
              <a:rPr b="1" lang="ru-RU" sz="2800" spc="-1" strike="noStrike">
                <a:solidFill>
                  <a:srgbClr val="04617b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57120" y="1700280"/>
          <a:ext cx="8535960" cy="4608360"/>
        </p:xfrm>
        <a:graphic>
          <a:graphicData uri="http://schemas.openxmlformats.org/drawingml/2006/table">
            <a:tbl>
              <a:tblPr/>
              <a:tblGrid>
                <a:gridCol w="3135240"/>
                <a:gridCol w="1871640"/>
                <a:gridCol w="1828800"/>
                <a:gridCol w="170028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за  2015  г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43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55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55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6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18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29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28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13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DB5B62-9096-431F-98A2-732278C7283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4" descr="12_zarplata-2.jpg"/>
          <p:cNvPicPr/>
          <p:nvPr/>
        </p:nvPicPr>
        <p:blipFill>
          <a:blip r:embed="rId1"/>
          <a:stretch/>
        </p:blipFill>
        <p:spPr>
          <a:xfrm>
            <a:off x="324000" y="907920"/>
            <a:ext cx="26636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Объем и структура налоговых  доходов  в 2015 году, млн.руб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37C46F-DC4C-4BCF-A613-362565F6AB94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Содержимое 7" descr=""/>
          <p:cNvPicPr/>
          <p:nvPr/>
        </p:nvPicPr>
        <p:blipFill>
          <a:blip r:embed="rId1"/>
          <a:stretch/>
        </p:blipFill>
        <p:spPr>
          <a:xfrm>
            <a:off x="417600" y="1217520"/>
            <a:ext cx="8381880" cy="2694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704160" y="3933720"/>
            <a:ext cx="44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Налог на доходы физических лиц – 43,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476360" y="4869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703800" y="5229360"/>
            <a:ext cx="49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оходы от уплаты акцизов на топливо – 16,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709560" y="46530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Налоги, взимаемые с связи с применени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704880" y="4292640"/>
            <a:ext cx="46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Единый налог на вмененный доход – 13,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707040" y="5589720"/>
            <a:ext cx="42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Налог на имущество организаций – 5,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698040" y="5950080"/>
            <a:ext cx="357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Государственная пошлина – 2,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17" descr="2254_large.jpg"/>
          <p:cNvPicPr/>
          <p:nvPr/>
        </p:nvPicPr>
        <p:blipFill>
          <a:blip r:embed="rId2"/>
          <a:stretch/>
        </p:blipFill>
        <p:spPr>
          <a:xfrm>
            <a:off x="324000" y="4365720"/>
            <a:ext cx="204480" cy="2077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8" descr="SqVIW.png"/>
          <p:cNvPicPr/>
          <p:nvPr/>
        </p:nvPicPr>
        <p:blipFill>
          <a:blip r:embed="rId3"/>
          <a:stretch/>
        </p:blipFill>
        <p:spPr>
          <a:xfrm>
            <a:off x="324000" y="479736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9"/>
          <p:cNvSpPr/>
          <p:nvPr/>
        </p:nvSpPr>
        <p:spPr>
          <a:xfrm>
            <a:off x="778680" y="4869000"/>
            <a:ext cx="50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упрощенной системы налогообложения – 18,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703080" y="6308640"/>
            <a:ext cx="47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Единый сельскохозяйственный налог – 1,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Рисунок 21" descr="0006-016-Zeljonyj-tsvet.jpg"/>
          <p:cNvPicPr/>
          <p:nvPr/>
        </p:nvPicPr>
        <p:blipFill>
          <a:blip r:embed="rId4"/>
          <a:stretch/>
        </p:blipFill>
        <p:spPr>
          <a:xfrm>
            <a:off x="324000" y="5229360"/>
            <a:ext cx="245880" cy="2365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2" descr="0_KV_044_4fe9b3ff97ff8.jpg"/>
          <p:cNvPicPr/>
          <p:nvPr/>
        </p:nvPicPr>
        <p:blipFill>
          <a:blip r:embed="rId5"/>
          <a:stretch/>
        </p:blipFill>
        <p:spPr>
          <a:xfrm>
            <a:off x="324000" y="566100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3" descr="1_img.jpg"/>
          <p:cNvPicPr/>
          <p:nvPr/>
        </p:nvPicPr>
        <p:blipFill>
          <a:blip r:embed="rId6"/>
          <a:stretch/>
        </p:blipFill>
        <p:spPr>
          <a:xfrm>
            <a:off x="324000" y="6021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4" descr="2706.750x0.jpg"/>
          <p:cNvPicPr/>
          <p:nvPr/>
        </p:nvPicPr>
        <p:blipFill>
          <a:blip r:embed="rId7"/>
          <a:stretch/>
        </p:blipFill>
        <p:spPr>
          <a:xfrm>
            <a:off x="324000" y="6381720"/>
            <a:ext cx="21564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6" descr="286997_original.png"/>
          <p:cNvPicPr/>
          <p:nvPr/>
        </p:nvPicPr>
        <p:blipFill>
          <a:blip r:embed="rId8"/>
          <a:stretch/>
        </p:blipFill>
        <p:spPr>
          <a:xfrm>
            <a:off x="324000" y="4005360"/>
            <a:ext cx="222120" cy="20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686800" cy="156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5ef0f7"/>
                </a:solidFill>
                <a:latin typeface="Arial"/>
                <a:ea typeface="Arial"/>
              </a:rPr>
              <a:t>Объем и структура неналоговых доходов,  тыс.руб</a:t>
            </a:r>
            <a:r>
              <a:rPr b="1" lang="ru-RU" sz="2800" spc="-1" strike="noStrike">
                <a:solidFill>
                  <a:srgbClr val="5ef0f7"/>
                </a:solidFill>
                <a:latin typeface="Arial"/>
                <a:ea typeface="Arial"/>
              </a:rPr>
              <a:t>.</a:t>
            </a:r>
            <a:br>
              <a:rPr sz="54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A2227A-4512-4B6B-9A54-BC1BC1E3D27D}" type="slidenum">
              <a:rPr b="1" lang="en-GB" sz="14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Диаграмма 4" descr=""/>
          <p:cNvPicPr/>
          <p:nvPr/>
        </p:nvPicPr>
        <p:blipFill>
          <a:blip r:embed="rId1"/>
          <a:stretch/>
        </p:blipFill>
        <p:spPr>
          <a:xfrm>
            <a:off x="0" y="785880"/>
            <a:ext cx="919476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5ef0f7"/>
                </a:solidFill>
                <a:latin typeface="Calibri"/>
                <a:ea typeface="Arial"/>
              </a:rPr>
              <a:t>Безвозмездные</a:t>
            </a:r>
            <a:r>
              <a:rPr b="1" lang="ru-RU" sz="3200" spc="-1" strike="noStrike">
                <a:solidFill>
                  <a:srgbClr val="00ffff"/>
                </a:solidFill>
                <a:latin typeface="Calibri"/>
                <a:ea typeface="Arial"/>
              </a:rPr>
              <a:t> поступления из бюджетов других уровней бюджетной системы – 128,4 млн.руб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E37C80-632F-4601-9842-4C6859B4E2DA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Содержимое 7" descr=""/>
          <p:cNvPicPr/>
          <p:nvPr/>
        </p:nvPicPr>
        <p:blipFill>
          <a:blip r:embed="rId1"/>
          <a:stretch/>
        </p:blipFill>
        <p:spPr>
          <a:xfrm>
            <a:off x="272880" y="1217520"/>
            <a:ext cx="867096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имир</dc:creator>
  <dc:description/>
  <dc:language>en-US</dc:language>
  <cp:lastModifiedBy>Лебяжское РФО</cp:lastModifiedBy>
  <dcterms:modified xsi:type="dcterms:W3CDTF">2016-05-13T10:29:14Z</dcterms:modified>
  <cp:revision>1051</cp:revision>
  <dc:subject/>
  <dc:title>Слайд 1</dc:title>
</cp:coreProperties>
</file>