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142-7A6A-450F-A834-D994990E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82520" y="1314000"/>
            <a:ext cx="5429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2520" y="4570200"/>
            <a:ext cx="5429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82520" y="5790960"/>
            <a:ext cx="5429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9562-5539-4E0B-819E-E7BAA384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82520" y="1314000"/>
            <a:ext cx="5429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82520" y="4570200"/>
            <a:ext cx="2649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4960" y="4570200"/>
            <a:ext cx="2649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82520" y="5790960"/>
            <a:ext cx="2649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64960" y="5790960"/>
            <a:ext cx="2649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CEFE-D2FB-4BD3-8FC5-7CC37506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82520" y="1314000"/>
            <a:ext cx="5429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82520" y="4570200"/>
            <a:ext cx="174816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18520" y="4570200"/>
            <a:ext cx="174816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754520" y="4570200"/>
            <a:ext cx="174816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82520" y="5790960"/>
            <a:ext cx="174816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18520" y="5790960"/>
            <a:ext cx="174816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754520" y="5790960"/>
            <a:ext cx="174816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25C6-7880-4002-8569-0528D777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8412-CC4F-454D-933A-AF9D1C08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2520" y="1314000"/>
            <a:ext cx="5429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82520" y="4570200"/>
            <a:ext cx="54295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3A0C-0835-4006-A1ED-72FF0789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2520" y="1314000"/>
            <a:ext cx="5429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2520" y="4570200"/>
            <a:ext cx="5429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39F6-39D2-4CB0-A440-CE702E2B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2520" y="1314000"/>
            <a:ext cx="5429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2520" y="4570200"/>
            <a:ext cx="2649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64960" y="4570200"/>
            <a:ext cx="2649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5286-A31B-4004-B8DA-4360B134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2520" y="1314000"/>
            <a:ext cx="5429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DFE9-768D-4471-932B-AFD7E42F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82520" y="1314000"/>
            <a:ext cx="5429520" cy="89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5E30-CD23-48AE-ACEC-E69FF716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2520" y="1314000"/>
            <a:ext cx="5429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2520" y="4570200"/>
            <a:ext cx="2649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64960" y="4570200"/>
            <a:ext cx="2649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82520" y="5790960"/>
            <a:ext cx="2649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1DF5-1EF8-4839-ADC2-9E350FD3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2520" y="1314000"/>
            <a:ext cx="5429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82520" y="4570200"/>
            <a:ext cx="54295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B0C0-EAAE-4E13-B141-98D11AF4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2520" y="1314000"/>
            <a:ext cx="5429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2520" y="4570200"/>
            <a:ext cx="2649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64960" y="4570200"/>
            <a:ext cx="2649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64960" y="5790960"/>
            <a:ext cx="2649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1F16-CC54-4C71-AD02-C0F729D5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2520" y="1314000"/>
            <a:ext cx="5429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2520" y="4570200"/>
            <a:ext cx="2649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4960" y="4570200"/>
            <a:ext cx="2649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82520" y="5790960"/>
            <a:ext cx="5429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D4EA-CBDA-48A2-9975-09566720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2520" y="1314000"/>
            <a:ext cx="5429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2520" y="4570200"/>
            <a:ext cx="5429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82520" y="5790960"/>
            <a:ext cx="5429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E969-DBE5-4D68-B4A4-3FC65DAE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2520" y="1314000"/>
            <a:ext cx="5429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2520" y="4570200"/>
            <a:ext cx="2649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64960" y="4570200"/>
            <a:ext cx="2649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82520" y="5790960"/>
            <a:ext cx="2649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64960" y="5790960"/>
            <a:ext cx="2649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A793-ED93-4BE6-B84E-67EE6A35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2520" y="1314000"/>
            <a:ext cx="5429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2520" y="4570200"/>
            <a:ext cx="174816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918520" y="4570200"/>
            <a:ext cx="174816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54520" y="4570200"/>
            <a:ext cx="174816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82520" y="5790960"/>
            <a:ext cx="174816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918520" y="5790960"/>
            <a:ext cx="174816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4754520" y="5790960"/>
            <a:ext cx="174816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8774-565C-403B-955C-DB93D48A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2520" y="1314000"/>
            <a:ext cx="5429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2520" y="4570200"/>
            <a:ext cx="5429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AA8-6D2D-4106-95DA-37D42A90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82520" y="1314000"/>
            <a:ext cx="5429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82520" y="4570200"/>
            <a:ext cx="2649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864960" y="4570200"/>
            <a:ext cx="2649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9424-ECD1-4E13-B344-62CAB208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82520" y="1314000"/>
            <a:ext cx="5429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5076-5211-41F0-BD27-DBBAE145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82520" y="1314000"/>
            <a:ext cx="5429520" cy="89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56F3-7C7F-4D7C-A47D-93DEB75C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2520" y="1314000"/>
            <a:ext cx="5429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2520" y="4570200"/>
            <a:ext cx="2649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960" y="4570200"/>
            <a:ext cx="2649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82520" y="5790960"/>
            <a:ext cx="2649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5185-A95F-4184-A653-9DA46F34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2520" y="1314000"/>
            <a:ext cx="5429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2520" y="4570200"/>
            <a:ext cx="2649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4960" y="4570200"/>
            <a:ext cx="2649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64960" y="5790960"/>
            <a:ext cx="2649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2C30-3798-4F7D-8146-D2B80257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2520" y="1314000"/>
            <a:ext cx="5429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2520" y="4570200"/>
            <a:ext cx="2649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64960" y="4570200"/>
            <a:ext cx="2649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2520" y="5790960"/>
            <a:ext cx="5429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6607-932F-4C5A-AA49-E07BA9A7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428920" y="0"/>
            <a:ext cx="8943840" cy="5079600"/>
            <a:chOff x="-2428920" y="0"/>
            <a:chExt cx="8943840" cy="5079600"/>
          </a:xfrm>
        </p:grpSpPr>
        <p:sp>
          <p:nvSpPr>
            <p:cNvPr id="1" name=""/>
            <p:cNvSpPr/>
            <p:nvPr/>
          </p:nvSpPr>
          <p:spPr>
            <a:xfrm>
              <a:off x="-2428920" y="914400"/>
              <a:ext cx="3085920" cy="41652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819080" y="0"/>
              <a:ext cx="2320200" cy="42055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28520" y="203184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27080" y="40140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27080" y="243684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0FEE-53BF-493A-A44F-17BD886FD2A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2417760" y="406440"/>
            <a:ext cx="8932680" cy="6298560"/>
            <a:chOff x="-2417760" y="406440"/>
            <a:chExt cx="8932680" cy="6298560"/>
          </a:xfrm>
        </p:grpSpPr>
        <p:sp>
          <p:nvSpPr>
            <p:cNvPr id="46" name=""/>
            <p:cNvSpPr/>
            <p:nvPr/>
          </p:nvSpPr>
          <p:spPr>
            <a:xfrm>
              <a:off x="1085400" y="3352680"/>
              <a:ext cx="542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1886400" y="1828440"/>
              <a:ext cx="2743200" cy="48765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417760" y="406440"/>
              <a:ext cx="3029400" cy="53845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2520" y="1314000"/>
            <a:ext cx="5429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9333-9869-4DC3-9052-785D7F2F7DA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0"/>
          <a:ext cx="6858000" cy="913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3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04640" y="1258920"/>
            <a:ext cx="619128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 квартире (в комнате, кухне, подсобном помещении, лоджии и т.д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а лестничной клетке (мусоропровод, почтовый ящик и т.д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 соседней квартире (идет дым из щелей двер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 соседнем дом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203640"/>
            <a:ext cx="6858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и обнаружении очага возгорания немедлен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ызывайте пожарную охран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684000"/>
            <a:ext cx="6858000" cy="63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и обнаружении признаков начинающегося пожара постарайтесь быстро установить где находится очаг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04640" y="3780000"/>
            <a:ext cx="6264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и вызове сообщите следующие сведения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дрес, где обнаружено загорание или пожар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Объект, где происходит пожар: во дворе, в квартире, на складе, в подвале и т.д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Что горит (конкретно: телевизор, мебель, автомобиль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Если диспетчер попросит, то уточните: номер дома, подъезда, квартиры, на каком этаже пожар, сколько этажей в здании, откуда удобнее подъехать, код для входа в подъезд, есть ли опасность для людей и т.д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вою фамилию и телефо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6280" y="6948360"/>
            <a:ext cx="6381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Говорите по телефону четко, спокойно, не торопитесь. По Вашему звонк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ожарная команда уже поднята по тревоге и выезжает, а вс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дополнительные сведения  ей передадут по рац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осле вызова выйдите из дома, встретьте пожарную машин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6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Возгорания и пожа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11-03-10T12:49:50Z</dcterms:modified>
  <cp:revision>4</cp:revision>
  <dc:subject/>
  <dc:title>PowerPoint Presentation</dc:title>
</cp:coreProperties>
</file>